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4468-FCD8-43C4-97A6-B2E1575C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124-FAEF-4DF2-960F-991782EE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C959-763D-4B6F-95F0-85A1FD81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739-E1C6-40FA-B1F8-2A98E03F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756-FADE-4479-9AFD-B523B9F8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B50-0D10-466F-A7F9-400859A5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069-520A-410A-8283-C530D76B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EB4-ECCB-4288-A3CE-5FDBE0A3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8C93-744C-4903-A35D-D7AE9396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E45-FA0D-405F-80E2-7BBD5392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FF8-8F32-4F12-A3DA-3E631963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EB5-C7C7-4CC8-8C34-3FB122CE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3813-FED1-4617-9233-3E2512C83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203720" cy="1017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3047760" cy="743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685800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619760" cy="3135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8076960" cy="144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9880" y="4343400"/>
            <a:ext cx="8384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68580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80" y="76320"/>
            <a:ext cx="6875640" cy="327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7620120" cy="1284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62320" y="4191120"/>
            <a:ext cx="12952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600" y="76320"/>
            <a:ext cx="2654280" cy="585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73152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933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71800" y="914400"/>
            <a:ext cx="1600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207040" cy="64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680" y="2590920"/>
            <a:ext cx="38102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4572000"/>
            <a:ext cx="1752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4:13:31Z</dcterms:created>
  <dc:creator>grahams</dc:creator>
  <dc:description/>
  <dc:language>en-US</dc:language>
  <cp:lastModifiedBy>grahams</cp:lastModifiedBy>
  <dcterms:modified xsi:type="dcterms:W3CDTF">2012-03-22T12:52:59Z</dcterms:modified>
  <cp:revision>2</cp:revision>
  <dc:subject/>
  <dc:title>Slide 1</dc:title>
</cp:coreProperties>
</file>